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FFD-0BC1-4871-B435-452B10ED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9F9-9EE5-49B0-944B-6F1DC801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4D4-BC8C-4567-8BCA-8D25B1E7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941-3601-4CA8-BE9B-82C345F1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FC9-C61C-4139-8CDD-E95E4854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385-1200-4EA0-99C1-4316BCA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A6E-E001-47BA-8661-703C70FB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D00-BCF1-4666-8A5A-174B8B8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8A7-0F4F-4BA1-9B56-ABCAF12B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122-4FE2-457A-9047-3F36955C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4F9-EF2D-4C54-B3F2-47DF723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754-BD29-403D-B0D2-BC05A0B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184-BAEC-4C5A-ADD4-5892C08EA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1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2.jpe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5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6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333360"/>
            <a:ext cx="7991280" cy="70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i pue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vo 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live i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 mi pueblo / ciudad / aldea hay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n my town / city / village there i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s, vi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ía en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 used to live i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abía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re wa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Ojála hubiera también... </a:t>
            </a: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    – If only there was al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 yo fuera alcalde, me gustaría tener 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 were mayor I would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mus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castill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plaza de to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estadi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comis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aparcamien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bibliot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centro comer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oficina de tur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re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cated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a estac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na igles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15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7308720" y="4437000"/>
            <a:ext cx="1393920" cy="1557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773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773360"/>
            <a:ext cx="165564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esta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1773360"/>
            <a:ext cx="136872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Corr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89360"/>
            <a:ext cx="154764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645000"/>
            <a:ext cx="1800360" cy="10087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Comic Sans MS"/>
              </a:rPr>
              <a:t>Un apar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6093000"/>
            <a:ext cx="169236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entro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6021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astil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595008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us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oficina de turis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162864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es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70028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ated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bibliot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364500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omisar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67440"/>
            <a:ext cx="1692360" cy="42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igles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606744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plaza de to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5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663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333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7308720" y="4221000"/>
            <a:ext cx="1393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3:15Z</dcterms:created>
  <dc:creator>Owner1</dc:creator>
  <dc:description/>
  <dc:language>en-US</dc:language>
  <cp:lastModifiedBy>Owner1</cp:lastModifiedBy>
  <dcterms:modified xsi:type="dcterms:W3CDTF">2008-09-09T19:21:22Z</dcterms:modified>
  <cp:revision>3</cp:revision>
  <dc:subject/>
  <dc:title>Slide 1</dc:title>
</cp:coreProperties>
</file>